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124-81D1-4B7F-99AC-306B1D92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D8C-5A0E-458B-9074-D4EBB4F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9E4-AA83-4988-83E5-02FEC549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F59-B1FD-4640-B664-B024BC8D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E28-E321-4FE0-BDFE-2CCFC3C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FC7-7E63-4462-925F-42D8647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BF5-53CA-41E1-8EC9-AF24774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A84-C96B-4A72-B840-E5373C2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42D-8B5A-4D9C-AAAA-E102242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57A-654B-43EE-BFCA-37D2537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F08-816B-42CD-9F6D-DF47A32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C34-0205-43B2-8725-46B5CAB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8eb3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68FC-3EE5-4833-AD46-1E3448EE18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7" descr="Рисунок1"/>
          <p:cNvPicPr/>
          <p:nvPr/>
        </p:nvPicPr>
        <p:blipFill>
          <a:blip r:embed="rId1"/>
          <a:stretch/>
        </p:blipFill>
        <p:spPr>
          <a:xfrm>
            <a:off x="0" y="4905360"/>
            <a:ext cx="3889440" cy="1952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1"/>
          <p:cNvSpPr txBox="1"/>
          <p:nvPr/>
        </p:nvSpPr>
        <p:spPr>
          <a:xfrm>
            <a:off x="0" y="797040"/>
            <a:ext cx="91440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6259680" y="5163480"/>
            <a:ext cx="2884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удентка 4 курса,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изико-математического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культета, 141 гр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емяшкина Е.А.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2040" y="1712880"/>
            <a:ext cx="875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Проект « </a:t>
            </a: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Отрицательное</a:t>
            </a: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                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вокруг нас</a:t>
            </a: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»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300040" y="1538280"/>
            <a:ext cx="666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заниматься созданием буклета, в котором и разместит историческую справку возникновения отрицательных чисел. Будет исследовать загадки дре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46240" y="29052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0" y="1279440"/>
            <a:ext cx="1971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0" y="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I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93600" y="681120"/>
            <a:ext cx="755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опыты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заниматься созданием презентации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ое и отрицательное в литературных произведения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991640" y="0"/>
            <a:ext cx="1152360" cy="153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681960" y="3648240"/>
            <a:ext cx="246204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0" y="2319480"/>
            <a:ext cx="5248440" cy="3363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0" y="5603760"/>
            <a:ext cx="70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 Баба Яга является отрицательным героем в литературных произведения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17560" y="2897280"/>
            <a:ext cx="77724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“Отрицательное вокруг нас” разработан для учащихся 6 классов общеобразовательных шк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может быть использован при изучении темы «Натуральные числа.», «Координатная прямая.», «Модуль числа. Противоположные числа.», «Положительные и отрицательные числа.», а так же на факультативных занят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044720" y="1204920"/>
            <a:ext cx="75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f11a4"/>
                </a:solidFill>
                <a:latin typeface="Times New Roman"/>
              </a:rPr>
              <a:t>Аннотация проекта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14240" y="2604600"/>
            <a:ext cx="77724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лавным в этом проекте является освоение учениками знаний об отрицательных числах, обучение в сотрудниче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ходе проекта учащиеся самостоятельно проводят групповые исследования по различным источникам информации (социальный опрос, составляют историческую справку) и оформляют результаты своих исследований в виде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обучения у учащихся формируется целостное представление об отрицательных числ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262160" y="378000"/>
            <a:ext cx="683568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08320" y="1741320"/>
            <a:ext cx="639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f11a4"/>
                </a:solidFill>
                <a:latin typeface="Times New Roman"/>
              </a:rPr>
              <a:t>Аннотация</a:t>
            </a:r>
            <a:r>
              <a:rPr b="1" i="1" lang="ru-RU" sz="4800" spc="-1" strike="noStrike">
                <a:solidFill>
                  <a:srgbClr val="df11a4"/>
                </a:solidFill>
                <a:latin typeface="Times New Roman"/>
              </a:rPr>
              <a:t> проекта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7201080" y="0"/>
            <a:ext cx="19429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63600" y="1943280"/>
            <a:ext cx="878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матика. Итоговые уроки. 5-9 классы/ Авт.-сост. О.В. Бощенко.- Волгоград: Учитель, 2005.-69с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нимательна математика. 5-11 классы. (Как сделать уроки математики нескучными)/ Авт.-сост. Т.Д.Гаврилова. – Волгоград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читель, 2005. – 96с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 А.П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иду на урок: Хрестоматия игровых приемов обучения: Книга для учителя. – М.:  Издательство “Первое сентября”, 2002. -224с.: ил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49960" y="623880"/>
            <a:ext cx="355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Times New Roman"/>
              </a:rPr>
              <a:t>Источники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онятия у детей отрицательного числа и его исторические сведения, значимость отрицательных чисел в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обретение навыков школьников сравнения фактов, самостоятельных оценок событий, объяснения явлений, интерпретирования сведений, а так же научиться связывать изучение темы с другими дисциплинами и те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обретение навыков самостоятельной работы, работы в груп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057320" y="417600"/>
            <a:ext cx="7278480" cy="16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442880" y="1001880"/>
            <a:ext cx="69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Дидактические цели проект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проекте "Отрицательное вокруг нас" ставятся методические 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ребят различать отрицательные числа от положи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  ребят работать с отрицательными числа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иться обрабатывать и обобщать полученную информацию в результате поиска материалов для проек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224000" y="217440"/>
            <a:ext cx="70642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966680" y="885960"/>
            <a:ext cx="515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тодические задач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6120" y="2743200"/>
            <a:ext cx="77724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егда ли разность положительна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017720" y="825480"/>
            <a:ext cx="672120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30560" y="1509840"/>
            <a:ext cx="839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imes New Roman"/>
              </a:rPr>
              <a:t>Основополагающий вопрос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0" y="4064040"/>
            <a:ext cx="24098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1400" y="2743200"/>
            <a:ext cx="77724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вляются ли числа источником счасть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появились отрицательные числ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чему Баба Яга является отрицательным героем в литературных произведения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479600" y="639720"/>
            <a:ext cx="683568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899640" y="841320"/>
            <a:ext cx="69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878de"/>
                </a:solidFill>
                <a:latin typeface="Times New Roman"/>
              </a:rPr>
              <a:t>Проблемные вопросы: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f11a4"/>
                </a:solidFill>
                <a:latin typeface="Times New Roman"/>
              </a:rPr>
              <a:t>Учебные вопрос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ие числа называются отрицательным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 располагаются отрицательные числа на числовой прямо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ие действия можно выполнять с отрицательными числ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туральные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ординатная пря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дуль числа. Противоположные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ожительные и отрицательные числ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 rot="21465600">
            <a:off x="-6120" y="220680"/>
            <a:ext cx="83901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 rot="21355800">
            <a:off x="2730240" y="781200"/>
            <a:ext cx="6413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31840" y="493560"/>
            <a:ext cx="87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ункты тематического учебного плана школьного предмета,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торым соответствует проект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сихологический подход в изучении отрицательных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сторический подход в изучении отрицательных чис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оложительное и отрицательное в художественной литерату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812880" y="987480"/>
            <a:ext cx="72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11a4"/>
                </a:solidFill>
                <a:latin typeface="Times New Roman"/>
              </a:rPr>
              <a:t>Разбиение класса на группы: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692080" y="0"/>
            <a:ext cx="64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дре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любите ломать голову над математическими загад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0" y="0"/>
            <a:ext cx="2476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I групп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45080" y="5602320"/>
            <a:ext cx="539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удет проведено анкетирование на тему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вляются ли числа источником счасть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4162320"/>
            <a:ext cx="3808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26548</cp:lastModifiedBy>
  <dcterms:modified xsi:type="dcterms:W3CDTF">2010-06-01T13:51:59Z</dcterms:modified>
  <cp:revision>144</cp:revision>
  <dc:subject/>
  <dc:title>Заголовок слайда отсутствует</dc:title>
</cp:coreProperties>
</file>